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8EF-5264-4DD4-BC5F-3253B030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A2B-3FB4-4A22-AF7C-DD7035E6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2D36-2D1B-4798-A36E-97D26C21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132-C782-4A7A-BCFB-1A96107A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C7C6-D542-487C-AFCA-E0E8DE0F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1FE6-404C-49CE-98E8-4129359F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6AAD-9CDE-4557-B53B-A5BD2AAF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4144-8E37-4577-8174-332DE8AB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523F-D702-4E8A-8003-1E1692C3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0995-603E-409D-ABD7-6EF2EBA8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4C4C-56F4-4523-B61A-C144892E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18B-20A4-4FEC-B19C-411E1902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334E-C672-4886-867C-02808172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0DF7-4A4D-4447-812D-69D07FC9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B84D-6F14-4DC5-93B5-71833139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A69E-B453-4799-82A4-39C00C16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1589-8162-4E4E-A5C0-12F9A02E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7767B-A690-4C77-A02A-2DD28225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1D25-B5D1-4CCC-BE98-7747D0C6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D4C4-0257-4DD9-87CC-5811A179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969F7-35C2-48BB-96F5-2B92BCB8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B409-001D-4388-8B12-417D4109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C94-A9D5-45AC-AD9A-F8B59718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E786-D767-4041-A016-9FA504AD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3C99-6F3E-451C-8C8E-B9976DBA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224A-99C1-41D5-8E23-A587DA16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BDE8C-223B-4ABF-AC44-E4996945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2D306-D762-4424-9881-24B23C72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CF0AC-C1A5-404C-83CE-93BCA9EC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F4EB8-2EA1-49E1-9592-8373FB33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461F-9929-4E6F-AB08-BA55FDCA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5E13-3C94-4A39-851A-2F32FDC4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6A6B9-FCF2-48BB-A250-C2BD9279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16A-BFF8-4EC3-BA1C-DBACBB65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8408-BFA1-4F36-9CEE-65677C00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852DD-DF96-4F79-A4E4-02712C70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E9C43-9F5D-438A-8497-B350F8B0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D2D8C-BB1C-476E-99FA-C70A768E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BFF55-A885-4319-9076-4D169D27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B1F79-C1E1-401B-82CD-5CF2C684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3C7E-F58E-47BB-B24D-1A38F509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371FF-F286-452C-8F83-36CC94E8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24190-41BC-4B66-AE2C-01DBD080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27F81-91B8-4773-BFA3-99C58095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F55-7DEA-4D0B-8549-F7565F60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94D00-BF6E-44F5-A42A-DB842BCC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39F92-6556-4AA6-AE0D-D5E7C0A7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6B491-5D69-4762-A0EB-924CEF63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734B9-6FB2-4537-9906-896A6FB0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33315-C71A-40F2-AFCF-C4A2882B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9EA71-9C81-4336-8857-8B0D9034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F5231-831F-452C-A1AA-D734A96F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FE1A8-A56D-4609-9149-85D1686F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059BC-DFB1-4C2C-A701-F0974E77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7E786-B7A1-4173-9C89-0D516AB0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246-8A82-4A49-92DD-A33095EA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13885-86BE-4592-A30C-48183792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BD89D-0EB6-4758-94C6-FF240077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0E109-C958-4339-8BF2-775B6575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43AF4-E14B-48B0-9030-9F6158B2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0551D-DFB5-4242-96B6-31881158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E7562-0C52-4A0C-B765-96803108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FB056-1348-441F-A486-BA3D65AE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AFBAF-546F-4C8B-9B72-4587BAFE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6925F-252B-4E8C-97BB-42FCC997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7F3CE-67C3-4119-BE81-F913A377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F3D-DBDB-414E-A2F6-1D3121F4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25F03-5FF7-48DD-8401-E76605A7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2B362-9DB7-4F25-A52C-10980EDF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820D1-12BE-4710-A620-FA257C1A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509F6-9C43-4B15-89C3-81A5018F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003DA-1E62-4552-9064-96939B1D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604AE-07CD-4100-8B9F-F1D73DC4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9E499-2032-4786-9F11-BA5011E4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708B1-119D-417F-8402-F8E4F8FD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E1D0A-6B97-4D79-A0BB-A52B1968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F3CBD-4A2B-4BE2-8CA3-C846E513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893-68B8-4C36-88F9-44ED8A19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72BD0-EE9D-4258-92C7-42197F77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C2D1B-7593-42F4-B981-7E1E34E6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AB3A5-7977-46A6-A57F-C525E0FE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F3251-6726-4F82-ADD6-6F89EE50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BA53B-DBF7-421D-B54D-CB90DCB0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FC1-551D-4D62-9101-7BA2BB3A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DFAA-D7C1-4C60-B1C6-72AD8600AE9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C494-37B4-4478-BC7A-658680663C6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D3BA-A250-47BA-A4B1-24E7FFF9EC4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C99F-DD69-4B2C-A544-9AFBCDDEC57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5CA9-2891-4D7A-BD6F-66B2101CB9B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B766-9114-476D-8EF0-DC61F201DBB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A8CF-61C0-44B8-91E3-D10542F406A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920" y="428760"/>
            <a:ext cx="878688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уманитарный проект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правления по образованию, спорту и туризму Березинского райисполком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00040" y="3285720"/>
            <a:ext cx="8429760" cy="3000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конструкция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адебного дома графа Потоцкого под гостиницу с рестораном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1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4857840"/>
            <a:ext cx="8543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 проекта: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становление культурного памятника архитектуры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XIX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ка дома графа Потоцкого под ресторан с гостинице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Рисунок 3" descr="F:\потоцкий\IMG_1772.jpg"/>
          <p:cNvPicPr/>
          <p:nvPr/>
        </p:nvPicPr>
        <p:blipFill>
          <a:blip r:embed="rId1"/>
          <a:stretch/>
        </p:blipFill>
        <p:spPr>
          <a:xfrm>
            <a:off x="1285920" y="142920"/>
            <a:ext cx="7500960" cy="471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600" y="142560"/>
            <a:ext cx="756612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ru-RU" sz="3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роки реализации: 36 месяцев</a:t>
            </a:r>
            <a:br>
              <a:rPr sz="3600"/>
            </a:br>
            <a:br>
              <a:rPr sz="3600"/>
            </a:br>
            <a:r>
              <a:rPr b="1" lang="ru-RU" sz="3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бщий объем финансирования </a:t>
            </a:r>
            <a:br>
              <a:rPr sz="3600"/>
            </a:br>
            <a:r>
              <a:rPr b="1" lang="ru-RU" sz="3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(в долларах США):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08.000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редства донора: 800.000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финансирования: 8.000</a:t>
            </a:r>
            <a:br>
              <a:rPr sz="3900"/>
            </a:b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4285800"/>
            <a:ext cx="7499520" cy="19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Целевая группа: 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зрослое население от 18 лет и старше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10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93582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 проекта:</a:t>
            </a:r>
            <a:r>
              <a:rPr b="1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3900"/>
            </a:br>
            <a:r>
              <a:rPr b="1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экотуризма в Березинском район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99680" y="1999800"/>
            <a:ext cx="86439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конструкция неиспользуемого имущества под гостиницу с рестораном согласно архитектурному проекту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здание туристического комплекса для полноценного отдыха туристов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ффективное использование природного потенциала Березинского район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казание платных туристических услуг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сто реализации проекта: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23311 Минская область, 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резинский район, город Березино, 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лица Набережная, д.1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2642760"/>
            <a:ext cx="7499520" cy="36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тактное лицо: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.С. Овчаренко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ректор ФОЦ «Лазурный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8029) 8400922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fkst-ber@tut.by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00400" y="274680"/>
            <a:ext cx="39337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br>
              <a:rPr sz="3900"/>
            </a:br>
            <a:r>
              <a:rPr b="1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м графа Потоцкого сейчас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Содержимое 3" descr="C:\Users\User\Desktop\катя\ГУМАНИТАРНЫЙ ПРОЕКТ  ФОЦ Лазурный\фото потоцкий\XIWmNupqy94.jpg"/>
          <p:cNvPicPr/>
          <p:nvPr/>
        </p:nvPicPr>
        <p:blipFill>
          <a:blip r:embed="rId1"/>
          <a:stretch/>
        </p:blipFill>
        <p:spPr>
          <a:xfrm>
            <a:off x="142920" y="357120"/>
            <a:ext cx="4357800" cy="3571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31" name="Рисунок 4" descr="C:\Users\User\Desktop\катя\ГУМАНИТАРНЫЙ ПРОЕКТ  ФОЦ Лазурный\фото потоцкий\frjebVBKv60.jpg"/>
          <p:cNvPicPr/>
          <p:nvPr/>
        </p:nvPicPr>
        <p:blipFill>
          <a:blip r:embed="rId2"/>
          <a:stretch/>
        </p:blipFill>
        <p:spPr>
          <a:xfrm>
            <a:off x="4071960" y="3214800"/>
            <a:ext cx="4714920" cy="3357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32" name="Заголовок 1"/>
          <p:cNvSpPr/>
          <p:nvPr/>
        </p:nvSpPr>
        <p:spPr>
          <a:xfrm>
            <a:off x="4572000" y="785880"/>
            <a:ext cx="42908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4" descr="C:\Users\User\Desktop\катя\ГУМАНИТАРНЫЙ ПРОЕКТ  ФОЦ Лазурный\потоцкий\Перспектива 1.jpg"/>
          <p:cNvPicPr/>
          <p:nvPr/>
        </p:nvPicPr>
        <p:blipFill>
          <a:blip r:embed="rId1"/>
          <a:stretch/>
        </p:blipFill>
        <p:spPr>
          <a:xfrm>
            <a:off x="4138560" y="2779560"/>
            <a:ext cx="5011920" cy="37245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143680" y="285840"/>
            <a:ext cx="37908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жидаемый результат после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Содержимое 3" descr="C:\Users\User\Desktop\катя\ГУМАНИТАРНЫЙ ПРОЕКТ  ФОЦ Лазурный\потоцкий\Перспектива 2.jpg"/>
          <p:cNvPicPr/>
          <p:nvPr/>
        </p:nvPicPr>
        <p:blipFill>
          <a:blip r:embed="rId2"/>
          <a:stretch/>
        </p:blipFill>
        <p:spPr>
          <a:xfrm>
            <a:off x="0" y="500040"/>
            <a:ext cx="478620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0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деемся на сотрудничество!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10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8T13:33:04Z</dcterms:created>
  <dc:creator>User</dc:creator>
  <dc:description/>
  <dc:language>en-US</dc:language>
  <cp:lastModifiedBy>User</cp:lastModifiedBy>
  <dcterms:modified xsi:type="dcterms:W3CDTF">2018-12-19T05:13:40Z</dcterms:modified>
  <cp:revision>7</cp:revision>
  <dc:subject/>
  <dc:title>Гуманитарный проект  управления по образованию, спорту и туризму Березинского райисполкома</dc:title>
</cp:coreProperties>
</file>